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01136"/>
        <c:axId val="71022827"/>
      </c:barChart>
      <c:catAx>
        <c:axId val="86201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2827"/>
        <c:crosses val="autoZero"/>
        <c:auto val="1"/>
        <c:lblAlgn val="ctr"/>
        <c:lblOffset val="100"/>
        <c:noMultiLvlLbl val="0"/>
      </c:catAx>
      <c:valAx>
        <c:axId val="71022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01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EDB-3025-49A5-8768-AF65440F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285-5BAB-4226-BC45-388E449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318-6EA7-4DEA-83AE-A303FDC2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7FA-2EA5-4E02-8717-99EB527B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0B6-CEF6-4D48-9CD5-0E865C67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6D7-914D-40B0-9060-4459E793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F00-051D-4CAD-9C94-EADDC22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EB7-DE52-4178-A8AC-1735FD6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8A6-13CF-403C-80B8-46E0BB7B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D47-4094-4F68-8199-BDF5E1A9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61A-2122-4B08-8739-D33FACA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B24-5434-436E-807C-3D03A3C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488BB-A4EF-4462-A385-E6F1F26355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