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20771"/>
        <c:axId val="20157997"/>
      </c:barChart>
      <c:catAx>
        <c:axId val="78920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57997"/>
        <c:crosses val="autoZero"/>
        <c:auto val="1"/>
        <c:lblAlgn val="ctr"/>
        <c:lblOffset val="100"/>
        <c:noMultiLvlLbl val="0"/>
      </c:catAx>
      <c:valAx>
        <c:axId val="20157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0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4D2-1EC2-44B0-A91E-FC9918DC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E4D-1238-476F-BC84-3F184B2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47F-96A7-45E3-833A-2D639F52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6BD-4C25-40FA-A887-175E576D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D66-7502-4565-A23D-17F39D26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248-DA9F-415E-ACA4-A2E4612B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8CD-62D7-4F28-9E8E-06A6257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E81-10C0-4432-992F-607ED75F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008-AC31-47B9-A097-A4180C91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AB7-73D2-44E3-BD1B-7D4FD87B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3FE-5798-402A-B294-F867ABB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1DC-B2A3-43F9-A161-A2DBF4AE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5E920-1B45-4225-8812-ABD1CCFCEC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