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16824"/>
        <c:axId val="61018578"/>
      </c:barChart>
      <c:catAx>
        <c:axId val="53116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18578"/>
        <c:crosses val="autoZero"/>
        <c:auto val="1"/>
        <c:lblAlgn val="ctr"/>
        <c:lblOffset val="100"/>
        <c:noMultiLvlLbl val="0"/>
      </c:catAx>
      <c:valAx>
        <c:axId val="61018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16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F12-0206-4BE1-A702-7EBA64E3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D9E-EA16-4618-B152-18B6964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B65-09FF-4731-8124-09AB08E2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BCF-33F1-4674-A0A8-9A413BCC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CE5-E595-41EA-8480-A7E294D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0EB-43DA-4211-AAA3-0C5456D0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F35-8E73-48BA-A23F-C7CCD062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DFD-178B-445E-8E42-784E9AA0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38E-11B3-488E-A8AB-09F84FCB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363-E5A7-4E3F-9E75-25471B5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4F0-6D1F-4450-B73F-39688086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95B-CD34-4D68-965C-29B244A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AA175-B2BE-4541-A14F-715EB6D872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