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7522334"/>
        <c:axId val="17249105"/>
      </c:barChart>
      <c:catAx>
        <c:axId val="8752233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249105"/>
        <c:crosses val="autoZero"/>
        <c:auto val="1"/>
        <c:lblAlgn val="ctr"/>
        <c:lblOffset val="100"/>
        <c:noMultiLvlLbl val="0"/>
      </c:catAx>
      <c:valAx>
        <c:axId val="1724910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52233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D2239-286A-4805-8B27-8F1815605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3353B-EF9E-498F-9A2D-BA139DD22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5D1F5-5A4F-4435-B696-699BE1A15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F01E2-3349-4ABA-A25B-8577FC26A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CD17B-14AF-4AF6-80BB-25AE3BCAE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CEAA0-5F3C-4295-8E4A-945769A03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7ACAD-6AEA-48CC-ADD4-7F34A68C2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567BA-2716-4853-8526-905E03B85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CDD37-09BA-47A7-A1F1-B25593528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45D4C-5F3C-445C-8D2C-5B9CB0BB7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4AEC7-8865-44CF-AD8E-C2061191C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8FC2C-1B97-401E-9D4C-EC4C177C7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ACED4E-0548-4BC2-AB67-9CF939A99CF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