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171061"/>
        <c:axId val="15607910"/>
      </c:barChart>
      <c:catAx>
        <c:axId val="251710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607910"/>
        <c:crosses val="autoZero"/>
        <c:auto val="1"/>
        <c:lblAlgn val="ctr"/>
        <c:lblOffset val="100"/>
        <c:noMultiLvlLbl val="0"/>
      </c:catAx>
      <c:valAx>
        <c:axId val="156079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710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510F-DE89-475A-9DA0-844B40D9F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398D-6EA8-4BE9-A8BA-7AAD227F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458D-A144-404F-9D76-98F2BC509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35B1-088E-46D1-BC93-9EA987FB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1285-78C5-4959-8366-80FEF7CF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DD9C-646F-4CC5-BEAD-B5F7AB4A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C2FD-35C9-4A1C-964A-2CE87AB6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5874-09A5-4D9B-8682-109BEA12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937F-902E-46C6-B85F-72177324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A64E-63ED-486F-9F20-91584B3F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07C4-856A-4571-AB5A-081B99D1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D74C-8EF1-41D0-B467-9EF7AF8E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89F43D-9E86-4EBF-8891-45FFDDCC27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