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35171"/>
        <c:axId val="84698564"/>
      </c:barChart>
      <c:catAx>
        <c:axId val="47935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98564"/>
        <c:crosses val="autoZero"/>
        <c:auto val="1"/>
        <c:lblAlgn val="ctr"/>
        <c:lblOffset val="100"/>
        <c:noMultiLvlLbl val="0"/>
      </c:catAx>
      <c:valAx>
        <c:axId val="84698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5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3C6-EFAE-40B4-A5D1-51A44F47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196-D6EA-43AA-A6E2-5478685E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BFB-FA6B-4FC8-BCEC-04AEE745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F37-05E5-414A-B93F-990A9917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B57-5B08-4ED3-9B7A-8E1B191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83E-C0B6-437C-BC2C-5E43E7E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228-68B8-487F-820D-B0654F1D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432-BE34-40DB-9CB3-624B955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3F9-215F-41B0-A8BE-72898937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6D0-DCF6-465C-98EA-D6522CC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9D7-CC01-4AA6-A919-472AADF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D96-2EC1-4F46-973D-3FAEDDD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AC883-72AE-4E0A-85E8-59ED57113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