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45652"/>
        <c:axId val="70073910"/>
      </c:barChart>
      <c:catAx>
        <c:axId val="31945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73910"/>
        <c:crosses val="autoZero"/>
        <c:auto val="1"/>
        <c:lblAlgn val="ctr"/>
        <c:lblOffset val="100"/>
        <c:noMultiLvlLbl val="0"/>
      </c:catAx>
      <c:valAx>
        <c:axId val="70073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45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A34-87EF-4421-8021-49A1131B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E5D-8DCB-46B3-A0BC-52A8613E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1EC-3EEE-4CAA-A167-94D83220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6D5-B99D-41B9-83F5-1F49AD6F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1D1-E780-4CB1-9611-4CA537A4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EEB-BD79-486C-A446-231F3370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615-12A3-4986-9C82-67EC2D4C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34A-F02E-4EBA-AC0F-FC4BAFC0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D7E-3DEF-40C2-B99E-09B36D04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7B40-3E7C-4A4B-AE45-30528555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B5C-CA33-4406-BD89-3780023F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657-3702-4BF2-88CB-351334B6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62669-8BC1-4318-BD12-DFE73F54FC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