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65829"/>
        <c:axId val="26748126"/>
      </c:barChart>
      <c:catAx>
        <c:axId val="32565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8126"/>
        <c:crosses val="autoZero"/>
        <c:auto val="1"/>
        <c:lblAlgn val="ctr"/>
        <c:lblOffset val="100"/>
        <c:noMultiLvlLbl val="0"/>
      </c:catAx>
      <c:valAx>
        <c:axId val="26748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65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841-2A39-4E43-AAE2-E164CF12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744-2E6A-4AAD-A260-F77B652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E69-15D6-4F22-B6DD-D23FE1F2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9F6-25AE-4E78-93D3-ACDCFB59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313-515D-475E-BB27-263F6836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1B9-00C6-45BA-BFA8-635DABB5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2C6-74D7-40EE-BAA0-8A8A527F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7EE-E3FD-47A1-B212-8022DCD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A27-E26B-473C-B776-0A83A16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80B-F9E7-436B-9F8B-E7DB694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937-818B-4DE5-9CB2-051B818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071-4A47-44E0-BC8C-B1956BE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3C842-38DC-459A-BC82-0E4C98763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