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25012"/>
        <c:axId val="95405514"/>
      </c:barChart>
      <c:catAx>
        <c:axId val="720250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05514"/>
        <c:crosses val="autoZero"/>
        <c:auto val="1"/>
        <c:lblAlgn val="ctr"/>
        <c:lblOffset val="100"/>
        <c:noMultiLvlLbl val="0"/>
      </c:catAx>
      <c:valAx>
        <c:axId val="95405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250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A908-E2F8-4385-9A10-010E7BE8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0D0-C192-44A1-98F8-03ED392B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0CA5-D3E7-4A95-BE27-EB140AFA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2B0-6EF1-456E-9C2F-D78EB51F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ACC-D861-4D13-88E9-56E876CB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DB9-BFF5-43EA-A92F-F7EF752B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F70-D661-46B9-8B64-D1352883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20AB-D0DA-46DD-9D75-E367EE4B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6E9-14C8-4BFF-BACF-F250D683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F885-C530-4B1E-B147-79818D21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B6C7-F14E-462F-9767-6A6E92B7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6925-C72C-44D8-B034-CC7749C7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F6D05-B603-44F7-BB5A-2A66A9642C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