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7115"/>
        <c:axId val="68085606"/>
      </c:barChart>
      <c:catAx>
        <c:axId val="54197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5606"/>
        <c:crosses val="autoZero"/>
        <c:auto val="1"/>
        <c:lblAlgn val="ctr"/>
        <c:lblOffset val="100"/>
        <c:noMultiLvlLbl val="0"/>
      </c:catAx>
      <c:valAx>
        <c:axId val="68085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7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D7F-A181-4792-AB31-59D21AA5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E49-DB02-4887-B1F8-0A8A1A16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78C-F8DB-4DBE-AB9C-A9B1F3E4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074-E6FF-4AD5-82EB-EE15E9C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DF0-3A2C-4C47-9B96-F08D7FE5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105-1623-4144-B8CB-B20F3549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1E7-A9FD-4EC0-BBCC-FA1EDBF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445-F4A2-4BB0-A99F-E5431DF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17C-7A29-4FF0-9B99-4A3F14CE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CCA-751D-4C8F-B344-9CAD901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8E1-641E-464E-A7A2-F396F94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298-8B5B-473E-BAD3-8D66105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0D86-AB69-4648-948D-533CC962BB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