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03751"/>
        <c:axId val="6848744"/>
      </c:barChart>
      <c:catAx>
        <c:axId val="74103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8744"/>
        <c:crosses val="autoZero"/>
        <c:auto val="1"/>
        <c:lblAlgn val="ctr"/>
        <c:lblOffset val="100"/>
        <c:noMultiLvlLbl val="0"/>
      </c:catAx>
      <c:valAx>
        <c:axId val="6848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03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625-B609-42F4-9D2B-69F27243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BA1-8E5E-4CAB-8E27-9C80CA31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F6E-BE5C-46CA-98E3-94C75B9E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5DB-D3DC-4A0C-8B09-9641A847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1C7-31FB-4F4A-9827-A814F9CC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DCB-0DE0-4AD0-99FB-F13134AD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FCA-CC2E-4BCD-B5C9-590E43EA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DAD-C79D-431B-BB6A-7CD58419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9E4-F5B3-4B6C-B27B-8C397A7B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126-0BB8-419C-8A81-488E3AE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28A-1F3F-4E57-85D7-18B14505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138-0541-42C5-AC19-B271CFC5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30306-1E28-4F55-9D15-A54C6FB7DF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