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3598"/>
        <c:axId val="43203599"/>
      </c:barChart>
      <c:catAx>
        <c:axId val="4203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3599"/>
        <c:crosses val="autoZero"/>
        <c:auto val="1"/>
        <c:lblAlgn val="ctr"/>
        <c:lblOffset val="100"/>
        <c:noMultiLvlLbl val="0"/>
      </c:catAx>
      <c:valAx>
        <c:axId val="43203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ABF-F629-4008-8BDF-96F63FB4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7DF-E13E-414E-82CD-DFA568D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421-13A9-477F-B7B4-B536D414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579-D783-4E0C-B80F-94078057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76F-D6F5-4FF0-8978-8B6D8D76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AC8-01A2-4F6D-953F-729983AB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70B-8E7C-439C-AF71-ADD5180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9DA-524E-49CB-9347-AEE962A1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103-FF67-4D2A-BAB7-8AD086C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0FD-4A7A-4DCA-B862-6A1E72B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4AA-35AA-4F8E-95D3-04EBAEE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C6E-E304-415F-99B0-948DC44F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9E7E9-1E5F-4870-9032-632840D83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