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53864"/>
        <c:axId val="80621405"/>
      </c:barChart>
      <c:catAx>
        <c:axId val="27153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21405"/>
        <c:crosses val="autoZero"/>
        <c:auto val="1"/>
        <c:lblAlgn val="ctr"/>
        <c:lblOffset val="100"/>
        <c:noMultiLvlLbl val="0"/>
      </c:catAx>
      <c:valAx>
        <c:axId val="80621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53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907-6072-442F-9206-ECB1A140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5DC-B832-44B4-BC4B-18F90A85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7E3-4CF0-43A3-87DF-626E85A0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609-E1E5-4F9A-8E6A-69383585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10A-DC65-458A-8BD7-3117B2C2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AA7-1098-4C6B-9939-E30644E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976-8BE0-4A26-B159-64585919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92C-BDF5-4708-9BB2-780899A4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1A9-2A5E-4814-BB11-55E7528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8E4-E40D-46A1-81FC-BF8740A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D472-FCCB-4F7D-AA7F-3F4A9EE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DBE-7A84-4B61-835C-1D18086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0BB1A-2C79-4A4F-8AA7-E7BF111201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