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567081"/>
        <c:axId val="83384337"/>
      </c:barChart>
      <c:catAx>
        <c:axId val="835670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84337"/>
        <c:crosses val="autoZero"/>
        <c:auto val="1"/>
        <c:lblAlgn val="ctr"/>
        <c:lblOffset val="100"/>
        <c:noMultiLvlLbl val="0"/>
      </c:catAx>
      <c:valAx>
        <c:axId val="833843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670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EBD6-60A6-4B97-9DFC-D47E2B12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F4CC-20EB-4304-801C-33EAAEE0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7668-9458-4657-97EC-D9FE2564B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E837-1920-4168-AF52-BC2DA2C1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7372-9C74-49FE-9717-F2A84CD0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7790-29B4-48B6-A1FA-5CFEDBD4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9294-2A20-4889-B5FC-9C1B4DD2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C219-5677-434F-9C59-557C6EF8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EC95-F826-4F97-A5B9-3CE82E5E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76E0-FF3D-4BBC-9283-0BA7155F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6C76-9278-492A-9BBE-C7CD6217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6B9F-6D77-4390-B885-3052E7A0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BD32C-2C5D-4C20-BCDD-5299782D44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