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29077"/>
        <c:axId val="33838493"/>
      </c:barChart>
      <c:catAx>
        <c:axId val="9872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38493"/>
        <c:crosses val="autoZero"/>
        <c:auto val="1"/>
        <c:lblAlgn val="ctr"/>
        <c:lblOffset val="100"/>
        <c:noMultiLvlLbl val="0"/>
      </c:catAx>
      <c:valAx>
        <c:axId val="33838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2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995-8092-40DB-AA1C-D8A87132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8E9-0C7C-46AA-896E-0478720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AF9-EC9E-4470-80B8-9C4A35BF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306-F57E-46EF-8E1E-548685E1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E13-CE50-4D45-B703-1CB3B62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276-75A3-4C98-9E74-3459A9F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E0C-B638-4B9F-9177-79734C92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A3E-5CBD-4767-A0A3-E5696B0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85B-88ED-4446-AEB2-C2C6AB36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CE0-BE72-45B6-8BBE-9D0B9A7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FD4-6E79-4D1A-9AA1-7327C7F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850-2D37-4894-A0D3-5669DAA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E95A3-490B-4E9D-8851-21C90A373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