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16917"/>
        <c:axId val="90998905"/>
      </c:barChart>
      <c:catAx>
        <c:axId val="96116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98905"/>
        <c:crosses val="autoZero"/>
        <c:auto val="1"/>
        <c:lblAlgn val="ctr"/>
        <c:lblOffset val="100"/>
        <c:noMultiLvlLbl val="0"/>
      </c:catAx>
      <c:valAx>
        <c:axId val="90998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16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80E-E62E-4139-AAA1-AAF30585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34B-8D3D-457F-894F-F4541C1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554-3993-4DBC-B88C-AB008A3F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62A-B87F-459B-B788-11CF1D4B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DC2-8DCB-4BA3-9D3D-C9CF634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8F8-18A4-4DDE-915A-A60E3B64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1D4-D42D-4072-9F44-48E14D2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F3D-808F-4DB3-93A1-0EE21E3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CD1-456D-4CC4-902F-6168501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1E6-D7D2-439C-A5F7-5FD47B5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D5D-9EEB-4C6A-B5F8-3B9DCC0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3D9-6917-44BF-93ED-C05F4047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60156-6DFA-4196-8CE8-8C398137CD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