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424112"/>
        <c:axId val="44516075"/>
      </c:barChart>
      <c:catAx>
        <c:axId val="914241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16075"/>
        <c:crosses val="autoZero"/>
        <c:auto val="1"/>
        <c:lblAlgn val="ctr"/>
        <c:lblOffset val="100"/>
        <c:noMultiLvlLbl val="0"/>
      </c:catAx>
      <c:valAx>
        <c:axId val="44516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241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1AC2-4D73-4329-972E-1D7D2EE8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6E21-3E61-44FF-98B0-D48EE7EB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111-74DC-40BF-B5F4-565066F3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A25-FFAB-4B65-9B41-6B70ECF4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15C-D418-4999-AA08-613E3897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3F0-6B36-4F34-9E7D-7FE64839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B1B8-AD1A-4AF9-AB9D-CD6D4A6D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C26-68B2-465C-9E33-54782BC2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5BBE-BEC9-411B-8312-671748C0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CA60-7E5E-44D8-BD59-EB3FAD5A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8BF9-442E-4992-A9E1-9EE3D79E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18E0-1E1F-40CA-BE99-9DA16842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C02BE-0843-444E-A82C-E3ED5B4140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