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04359"/>
        <c:axId val="54687629"/>
      </c:barChart>
      <c:catAx>
        <c:axId val="15704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7629"/>
        <c:crosses val="autoZero"/>
        <c:auto val="1"/>
        <c:lblAlgn val="ctr"/>
        <c:lblOffset val="100"/>
        <c:noMultiLvlLbl val="0"/>
      </c:catAx>
      <c:valAx>
        <c:axId val="54687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04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84F-0C2E-4478-9DC3-87D86852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E42-D862-4C45-B2D8-259C38F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A9B-36B8-40F3-912B-7E039590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E70-D372-4466-BAE1-932A4811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C18-DDE0-454E-9168-86331387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18F-8A70-4C02-A50F-6BF38F83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AE8-3EF8-418D-8616-A63E4E82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C9A-4DE5-4C4A-8A15-512CE871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D3B-68D1-4047-9BB1-5F7BEFE1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C63-D6A5-4D9E-B152-2AE57B4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269-0E4E-4319-AE17-56649EF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31B-3EE6-47D9-B3C7-5B3B0C16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947BA-7125-4253-A90D-135A73B766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