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58019"/>
        <c:axId val="95034723"/>
      </c:barChart>
      <c:catAx>
        <c:axId val="79558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4723"/>
        <c:crosses val="autoZero"/>
        <c:auto val="1"/>
        <c:lblAlgn val="ctr"/>
        <c:lblOffset val="100"/>
        <c:noMultiLvlLbl val="0"/>
      </c:catAx>
      <c:valAx>
        <c:axId val="95034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58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D8E-4DCD-4A0B-810B-A8DD5B35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BC3-BEB5-471F-A30C-2A5D5323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A80-27AD-4CB7-8184-BE7C91B0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50C-E209-4241-9421-CCFA73E7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0C9-FD4C-482E-8012-76C4110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21D-D06F-4122-8EF8-6B8C60E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F9E-4FFB-4AAA-9AB0-6FD1F45A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547-520F-475C-BC28-F41906BA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2B7-88C5-4E9F-98DA-31129BB0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CF36-4884-4420-80EA-D1E23340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736-2723-476E-96B2-951C0BEF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3AD-FE86-42D6-8431-F640A3B1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2BF55-E83D-4A20-9C0E-8F2FA903E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