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41491"/>
        <c:axId val="84104933"/>
      </c:barChart>
      <c:catAx>
        <c:axId val="33741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04933"/>
        <c:crosses val="autoZero"/>
        <c:auto val="1"/>
        <c:lblAlgn val="ctr"/>
        <c:lblOffset val="100"/>
        <c:noMultiLvlLbl val="0"/>
      </c:catAx>
      <c:valAx>
        <c:axId val="84104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41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188-364F-46FD-ADDF-DCF7C01B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3E1-8902-4A58-80E3-F18664E9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99D-B39D-42CB-A984-F80E785E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7B5-459B-4A12-8086-04955B8E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D72-857D-4817-BCD5-F9EA538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38A-D167-4B5A-806F-6E18C233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78E-32E1-4322-B06F-A4B7C4C1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3F0-852C-484B-91F5-52D43A85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EE1-8933-413D-A6E0-9C1EF399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9CE-6644-4419-BCC1-87178D81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C46-6D3F-4FE0-A475-347425C8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823-8F87-4AF5-976E-7A24B7C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B85B-5034-4356-8A6D-280BA40F5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