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9277"/>
        <c:axId val="83883907"/>
      </c:barChart>
      <c:catAx>
        <c:axId val="98009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83907"/>
        <c:crosses val="autoZero"/>
        <c:auto val="1"/>
        <c:lblAlgn val="ctr"/>
        <c:lblOffset val="100"/>
        <c:noMultiLvlLbl val="0"/>
      </c:catAx>
      <c:valAx>
        <c:axId val="83883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9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CE9-7603-4A12-86E2-40258B1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587-341B-41C1-9A68-1604860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D12-65D7-484D-ADA7-C747FB7C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D00-4F07-4CDE-9C55-31F4A78C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A15-6BE1-4ECF-8A01-424D9008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917-AFDE-46EE-9B02-8D40FCA1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1FA-B9DD-4D9D-A444-7AE5D4A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874-2E56-4A62-A905-DC8BD66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8C7-BADC-414E-8B72-CD81531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FC4-26D7-4DC2-9528-4C321C2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3D-1633-419A-9746-031230B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83C-AA76-4A41-B60A-D16958A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DA567-3C12-4E9B-BC2A-98FE38872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