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957260"/>
        <c:axId val="11633278"/>
      </c:barChart>
      <c:catAx>
        <c:axId val="179572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33278"/>
        <c:crosses val="autoZero"/>
        <c:auto val="1"/>
        <c:lblAlgn val="ctr"/>
        <c:lblOffset val="100"/>
        <c:noMultiLvlLbl val="0"/>
      </c:catAx>
      <c:valAx>
        <c:axId val="116332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572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F14E-AB99-4D40-908B-8910C7FA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3E3F-B54D-41D1-9FAE-189A6317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797F-0924-4685-A692-BE2B0C72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8588-E2AD-4C7C-AAF4-D19EB781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514-5659-4459-9F55-C0AC4D46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587-81F3-4603-8929-602FD0CC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8894-B443-409B-AE6A-92894BCE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AD05-DC11-499C-9013-89868BAF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435-1E81-4525-A387-AD4925DE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4C09-5195-4877-8423-FC6ABA19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4CED-B863-4D30-B046-7E579956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C09-550E-4B2E-8E1E-AB08858E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97779-5381-4CB2-8986-B220380E16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