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34253"/>
        <c:axId val="9874348"/>
      </c:barChart>
      <c:catAx>
        <c:axId val="40034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74348"/>
        <c:crosses val="autoZero"/>
        <c:auto val="1"/>
        <c:lblAlgn val="ctr"/>
        <c:lblOffset val="100"/>
        <c:noMultiLvlLbl val="0"/>
      </c:catAx>
      <c:valAx>
        <c:axId val="98743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34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F0B5-ACAB-4861-BF30-CFD132E55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BB687-9EBC-47C4-94B3-AC8537E78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F460-76FA-4F07-83C4-4AA0515FC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C06-11DA-43E3-A4B6-5B3C03C9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F8DE-0026-4CDB-A244-33D76B6D5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6593-EA11-4ADF-A64D-53558DAD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D570-BF94-4830-84DC-16DDDC1C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7CC0-E1BF-485C-9CFB-E5C88CED4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A40B-41E4-4C81-A6AC-5E64A64E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7CA7-A09E-4674-8BB4-33D4AFCA7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9ED2-8FD1-417F-B1BF-33762D34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95F0-CBB0-4E7C-A642-10DEA5DD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FA659-F9A8-4EFB-A3A0-DDC082C65A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