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43374"/>
        <c:axId val="35033340"/>
      </c:barChart>
      <c:catAx>
        <c:axId val="77143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33340"/>
        <c:crosses val="autoZero"/>
        <c:auto val="1"/>
        <c:lblAlgn val="ctr"/>
        <c:lblOffset val="100"/>
        <c:noMultiLvlLbl val="0"/>
      </c:catAx>
      <c:valAx>
        <c:axId val="35033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43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F82-CA44-4E29-8786-3EA6E2DD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45E-CF83-4C9B-949A-9223A696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6B3-E5B8-41CF-936F-99634846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533-E7C4-4671-A61D-DE0B0A79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78E-9875-4597-8447-9388DE21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545-6976-4DE0-9FC8-CA9C764C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0C1-9A6A-4997-8A4F-E696AC4E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602-0A60-4300-9610-EDAABFB6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388-1835-4BD3-9072-9AC1F5BF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255-F962-46E1-A46B-16CF50D8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30E-9E3C-4AB7-9038-A09570B7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254-9D60-46B1-BA09-4B791138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D0026-7348-4EDC-9C06-6BED4D9B37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