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34723"/>
        <c:axId val="64498897"/>
      </c:barChart>
      <c:catAx>
        <c:axId val="73347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98897"/>
        <c:crosses val="autoZero"/>
        <c:auto val="1"/>
        <c:lblAlgn val="ctr"/>
        <c:lblOffset val="100"/>
        <c:noMultiLvlLbl val="0"/>
      </c:catAx>
      <c:valAx>
        <c:axId val="644988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47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0E55-64C6-4755-AE45-4030C5A0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07B4-674A-4830-8595-2AC9C48F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2320-CB09-4D15-AF24-0604FCCF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F38D-5A62-4D04-A705-5649EE16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8516-4AF0-4717-91E1-0B0685F9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4B15-88B3-4336-A35C-49F58625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E40-25DA-4506-8964-59AA63F3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371-287B-4B36-8B8F-80D49287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2EF4-193A-4341-9CFE-C136A90E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C858-8515-4EC6-81A1-978A1D0C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847A-1625-420E-A74D-E2584CBD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75D8-D165-47B1-975C-010401C8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AE69A-D64D-4D39-BDF5-D5DC8C7F38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