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79382"/>
        <c:axId val="83323662"/>
      </c:barChart>
      <c:catAx>
        <c:axId val="65079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23662"/>
        <c:crosses val="autoZero"/>
        <c:auto val="1"/>
        <c:lblAlgn val="ctr"/>
        <c:lblOffset val="100"/>
        <c:noMultiLvlLbl val="0"/>
      </c:catAx>
      <c:valAx>
        <c:axId val="83323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79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5E42-CEE0-4C91-9799-3A05FBFC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2D0-2DF7-4C73-860A-76F39647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1C0-B1FB-4B23-8D9F-19A930DF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ADD-1B66-4608-A90C-891F2B52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B7BA-8824-44BF-8F8D-25BC5D64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AEA-CD0B-4327-8CE4-2C3E106C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835-94F1-42D9-9828-3C6A6911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5B8-9616-48AB-8046-0F1E51E5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6181-C1CD-4478-A93E-825D9EBD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4721-EEB7-44AA-BDE7-D9229CAA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1CE-FEF9-460F-98F5-E20EEDD8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A5C8-A603-4188-B9DF-32516CCD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75E6F-A899-4F72-96A2-DCAE7654B6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