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529236"/>
        <c:axId val="29146935"/>
      </c:barChart>
      <c:catAx>
        <c:axId val="435292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146935"/>
        <c:crosses val="autoZero"/>
        <c:auto val="1"/>
        <c:lblAlgn val="ctr"/>
        <c:lblOffset val="100"/>
        <c:noMultiLvlLbl val="0"/>
      </c:catAx>
      <c:valAx>
        <c:axId val="291469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5292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D1B9-2C02-4F9A-9BB9-3BE7767CE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2D36-A1D9-40BF-9E18-B88BB3040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25C0-AE0C-4517-925D-341259DB7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3E4C-8997-4D7B-9DEA-13A348E3B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A00B-869E-4181-A786-8FD8E883B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04B0-2B67-4CCB-9A80-670F03129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B1F3-F60C-47FE-B8BF-2E81DF960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DD89-D7E3-4931-BE3F-A1592776F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FF83-6208-4B9F-B70B-34A3AFCF6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85DD-484A-43D2-BD28-227D78BAC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A8E6-21DD-4FFA-9CA5-0539AC23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BA97-8D73-465C-897E-BA5E95FD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BCFE27-EBA9-49E3-BB0E-938C55F3144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