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65124"/>
        <c:axId val="21435940"/>
      </c:barChart>
      <c:catAx>
        <c:axId val="84265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35940"/>
        <c:crosses val="autoZero"/>
        <c:auto val="1"/>
        <c:lblAlgn val="ctr"/>
        <c:lblOffset val="100"/>
        <c:noMultiLvlLbl val="0"/>
      </c:catAx>
      <c:valAx>
        <c:axId val="21435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65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FDF-9C50-43DE-AE9E-964D5DB9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6F8-D90B-4706-8942-2AF0DEA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676-873B-4E79-B6AA-3A2CDE80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68A-BB44-47B6-9348-38E99EAB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A3E-A35B-4DAF-93AE-068FE7D6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06F-0169-48F7-BA4A-B9C33EED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C06-EC67-443A-85EC-F9FA629A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D64-A9AC-4D69-938D-A31C821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FCE-4061-4115-A64B-AD6B98B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786-4BCD-4270-993A-3D61373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8C5-3AF3-45A5-9439-62624DE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F47-5DB5-4F9F-B7FA-C67E6E9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6F267-773F-4BB9-92BF-E980FB51A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