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26013"/>
        <c:axId val="23237321"/>
      </c:barChart>
      <c:catAx>
        <c:axId val="14626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37321"/>
        <c:crosses val="autoZero"/>
        <c:auto val="1"/>
        <c:lblAlgn val="ctr"/>
        <c:lblOffset val="100"/>
        <c:noMultiLvlLbl val="0"/>
      </c:catAx>
      <c:valAx>
        <c:axId val="23237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26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F37-6EFB-4EB7-96E8-892F0328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7C9-4E7A-4209-934E-931E60ED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4F7-F217-48F3-BD96-FB9BC90E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B28-6DAB-49B4-BB52-D2101CF9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322-3070-44FD-A66F-A3EEBD51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C6C-BB7C-4E26-A182-6A8AA96E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E83-0B5A-4591-9BD7-E23D3FF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BD3-32E8-4B59-B1D6-C85F5E73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991-FDA9-452A-85E5-CCB92B74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D5D-A57E-41DA-85DC-8BB3B20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66D-3D15-4EF5-A99F-BA9BCFDE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6DB-8F84-4D1E-BAE7-D136754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9568C-BE71-4837-9878-9445CF3B73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