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407137"/>
        <c:axId val="36912125"/>
      </c:barChart>
      <c:catAx>
        <c:axId val="184071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912125"/>
        <c:crosses val="autoZero"/>
        <c:auto val="1"/>
        <c:lblAlgn val="ctr"/>
        <c:lblOffset val="100"/>
        <c:noMultiLvlLbl val="0"/>
      </c:catAx>
      <c:valAx>
        <c:axId val="369121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4071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198B-9732-403F-A108-3D9989486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3E66-BD58-4D31-9DB6-9F3265135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64B6-57D0-46E3-BFA1-732E6FEB8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69D0-89C7-4462-9BF2-14631FA18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147C-11E7-4197-B93C-88217B3CE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C835-6F66-4E57-A1E0-2BACC1A70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7DF3-E7C7-4393-979A-0F633BE19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A2E7-824A-4831-B6A4-5CE47ACC5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76F0-5F60-4B55-B6FC-13A9797FF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01BB-B493-4BFF-AF43-CE6EDEDFA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FD68-3C1A-46F1-ACC6-8CA28D906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33AC-3509-4414-A695-8EC510031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FEBB7C-73BA-4221-93B7-947BF821B07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