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20184"/>
        <c:axId val="13783905"/>
      </c:barChart>
      <c:catAx>
        <c:axId val="19820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83905"/>
        <c:crosses val="autoZero"/>
        <c:auto val="1"/>
        <c:lblAlgn val="ctr"/>
        <c:lblOffset val="100"/>
        <c:noMultiLvlLbl val="0"/>
      </c:catAx>
      <c:valAx>
        <c:axId val="13783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0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C43-E4E4-4224-B5D2-52496BDF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C1A-F577-41DE-91A0-E9CF57F9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F5E4-3468-4287-A61A-4E2FC4FC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B44-24AB-4461-A9D8-5A683CDF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526-E6CE-4A41-B7EE-31454BFC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5BB-474F-46B8-8551-512E5934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E1F-E5F6-46D7-9906-A101ECAF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643-E967-4740-9824-3568688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886-62BB-47D4-B5F9-4475C249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654-2A98-4035-99B8-6FE94E78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9ABC-C9C0-4BA2-9899-DD55F3D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6B83-CE6E-424D-B703-E07BC9B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3AF9A-E5D8-4D96-9003-CE0A8911D2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