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9048"/>
        <c:axId val="5298864"/>
      </c:barChart>
      <c:catAx>
        <c:axId val="5229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8864"/>
        <c:crosses val="autoZero"/>
        <c:auto val="1"/>
        <c:lblAlgn val="ctr"/>
        <c:lblOffset val="100"/>
        <c:noMultiLvlLbl val="0"/>
      </c:catAx>
      <c:valAx>
        <c:axId val="5298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9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E66-3528-4B95-8CDD-3449F420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BA0-9B21-4B8D-9140-EFC4C12C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F68-E3A6-4659-A76E-B644CA7F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82E-E894-44AA-A3C7-16F63C07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217-A08B-45E1-9C8F-122C31E2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813-AA1D-4073-A0A2-150CFD8E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341-235C-4B07-ABD0-EF4FB095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B10-3001-4580-9813-332EDD9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7B4-FD31-456F-ABD0-775D0599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F80-41FD-44A3-A670-7A0CA10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93A-4464-445C-846A-6C7B83F6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479-AF45-4C3F-9FFD-7A77D79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CC3E8-1143-4427-8B92-E3486B3D7C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