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46315"/>
        <c:axId val="21204326"/>
      </c:barChart>
      <c:catAx>
        <c:axId val="95246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04326"/>
        <c:crosses val="autoZero"/>
        <c:auto val="1"/>
        <c:lblAlgn val="ctr"/>
        <c:lblOffset val="100"/>
        <c:noMultiLvlLbl val="0"/>
      </c:catAx>
      <c:valAx>
        <c:axId val="21204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6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B06-EAE1-4B12-A21E-479DEFCD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5E0-F735-4DC0-872C-7FC76E29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61F-ED99-4FD6-AF95-C721ECD2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7AF-7A0F-4C6C-B71D-95C258F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192-6E41-4A82-BE89-95BBEB7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25F-9B53-47BB-9F3B-06B51DD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068-48F9-44D8-8ACC-ED174F1D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5F8-A34D-49DC-B299-81C7D541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FCE-DFD8-4E84-B6C4-0CB0D9F1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B38-D0DD-4B36-8922-F1FD320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08E-9DFD-45C9-8D58-B1347B8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C7D-9277-4BF9-B8A1-AC43276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73E06-09E9-43CA-B2D6-8A8A3B1C5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